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0A1-3118-466D-9B5F-FD479498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2CE-6C3B-4906-8A52-2D05057F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056-CC9A-4268-A416-C4494812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D24-431C-49DA-A049-CA40EFC4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1BF-ED24-4A9A-94C9-1B218ED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3BC-58B2-409E-8E12-A4BC523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C78-EC5F-4AD5-B024-717CF02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B5A-AB66-48D6-968B-427D1FEC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FE8-649D-4418-B6DD-F7076B8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49D-B9F0-483B-9980-C623884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681-EC73-43CE-A022-0D7C0E1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C9-232F-4FCB-A057-BE1412C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F0AA-7539-4675-A154-0007C668230B}" type="slidenum">
              <a:rPr b="0" lang="en-US" sz="1200" spc="-1" strike="noStrike">
                <a:solidFill>
                  <a:srgbClr val="ffff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Playboy The Layzboy and the WundahBoy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9"/>
                </a:solidFill>
                <a:latin typeface="Calibri"/>
              </a:rPr>
              <a:t>Harding, Coolidge, Hoov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9907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2574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1152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erbert C. Hoover #30 R-C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151000" y="1600200"/>
            <a:ext cx="484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undah boy Orph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nford Engineer Graduate, Mining Millionare, Fluent in Mandarin Chinese, Food Works Administrato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238400" cy="6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12380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88596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3886200" y="38862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12096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7"/>
          <a:stretch/>
        </p:blipFill>
        <p:spPr>
          <a:xfrm>
            <a:off x="7467480" y="388620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ashing Crash Fix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st 35 pounds and his hair went white then fell ou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1828800" cy="241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4267080" y="2666880"/>
            <a:ext cx="38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Three Ringer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ever wanted to see the help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874-1864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wned a Pair of Croc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2133720" cy="267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57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5105520" y="37339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162920" y="3733920"/>
            <a:ext cx="14475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6781680" y="1752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arren G. Harding #28 R-OH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754360" y="1600200"/>
            <a:ext cx="363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11420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391520" y="533520"/>
            <a:ext cx="11142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n a Newspape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nator than President because of the Dutch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86000" cy="257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943600" y="3505320"/>
            <a:ext cx="2886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 Nothing Cared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apot Dome Scanda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57400" cy="293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ular Callout 7"/>
          <p:cNvSpPr/>
          <p:nvPr/>
        </p:nvSpPr>
        <p:spPr>
          <a:xfrm>
            <a:off x="1523880" y="2666880"/>
            <a:ext cx="2743200" cy="914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ull My Finger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Callout 8"/>
          <p:cNvSpPr/>
          <p:nvPr/>
        </p:nvSpPr>
        <p:spPr>
          <a:xfrm>
            <a:off x="6553080" y="2057400"/>
            <a:ext cx="175284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NO!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Playbo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Ohio Gang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etting the China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d his own viewing room at the burlesque house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109548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09548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1905120" y="304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990720" y="3886200"/>
            <a:ext cx="17524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32767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lvin Coolidge #29 R-MA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efore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overnor of Ma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arding’s VP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762800" cy="380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23804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1238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uring Presidency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 nothing say less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eto and Clean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571840" cy="255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143000" cy="20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2133720" y="4191120"/>
            <a:ext cx="152388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4343400" y="41148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99072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6"/>
          <a:stretch/>
        </p:blipFill>
        <p:spPr>
          <a:xfrm>
            <a:off x="746748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8"/>
          <a:stretch/>
        </p:blipFill>
        <p:spPr>
          <a:xfrm>
            <a:off x="4419720" y="4572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"/>
          <p:cNvPicPr/>
          <p:nvPr/>
        </p:nvPicPr>
        <p:blipFill>
          <a:blip r:embed="rId9"/>
          <a:stretch/>
        </p:blipFill>
        <p:spPr>
          <a:xfrm>
            <a:off x="2286000" y="4724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ilent Cal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 Dogs, a Bobcat, a Goose, a donkey, a cat, two lion cubs, an antelope a wallaby and a pygmy Hippopotamous 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bed by ten up by eight and a two hour at four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3526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133720" y="457200"/>
            <a:ext cx="118116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5562720" y="38088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7924680" y="30492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7"/>
          <a:stretch/>
        </p:blipFill>
        <p:spPr>
          <a:xfrm>
            <a:off x="3048120" y="5562720"/>
            <a:ext cx="1181160" cy="107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/>
          <p:cNvPicPr/>
          <p:nvPr/>
        </p:nvPicPr>
        <p:blipFill>
          <a:blip r:embed="rId8"/>
          <a:stretch/>
        </p:blipFill>
        <p:spPr>
          <a:xfrm>
            <a:off x="3124080" y="42670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9"/>
          <a:stretch/>
        </p:blipFill>
        <p:spPr>
          <a:xfrm>
            <a:off x="4800600" y="259092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/>
          <p:cNvPicPr/>
          <p:nvPr/>
        </p:nvPicPr>
        <p:blipFill>
          <a:blip r:embed="rId10"/>
          <a:stretch/>
        </p:blipFill>
        <p:spPr>
          <a:xfrm>
            <a:off x="4267080" y="5638680"/>
            <a:ext cx="118116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11"/>
          <a:stretch/>
        </p:blipFill>
        <p:spPr>
          <a:xfrm>
            <a:off x="4648320" y="4267080"/>
            <a:ext cx="123804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12"/>
          <a:stretch/>
        </p:blipFill>
        <p:spPr>
          <a:xfrm>
            <a:off x="5562720" y="563868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13"/>
          <a:stretch/>
        </p:blipFill>
        <p:spPr>
          <a:xfrm>
            <a:off x="6172200" y="2514600"/>
            <a:ext cx="12859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"/>
          <p:cNvPicPr/>
          <p:nvPr/>
        </p:nvPicPr>
        <p:blipFill>
          <a:blip r:embed="rId14"/>
          <a:stretch/>
        </p:blipFill>
        <p:spPr>
          <a:xfrm>
            <a:off x="6019920" y="4114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"/>
          <p:cNvPicPr/>
          <p:nvPr/>
        </p:nvPicPr>
        <p:blipFill>
          <a:blip r:embed="rId15"/>
          <a:stretch/>
        </p:blipFill>
        <p:spPr>
          <a:xfrm>
            <a:off x="6858000" y="5715000"/>
            <a:ext cx="83808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"/>
          <p:cNvPicPr/>
          <p:nvPr/>
        </p:nvPicPr>
        <p:blipFill>
          <a:blip r:embed="rId16"/>
          <a:stretch/>
        </p:blipFill>
        <p:spPr>
          <a:xfrm>
            <a:off x="7696080" y="2590920"/>
            <a:ext cx="1228680" cy="69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"/>
          <p:cNvPicPr/>
          <p:nvPr/>
        </p:nvPicPr>
        <p:blipFill>
          <a:blip r:embed="rId17"/>
          <a:stretch/>
        </p:blipFill>
        <p:spPr>
          <a:xfrm>
            <a:off x="7620120" y="3657600"/>
            <a:ext cx="1181160" cy="1866960"/>
          </a:xfrm>
          <a:prstGeom prst="rect">
            <a:avLst/>
          </a:prstGeom>
          <a:ln w="0">
            <a:noFill/>
          </a:ln>
        </p:spPr>
      </p:pic>
      <p:sp>
        <p:nvSpPr>
          <p:cNvPr id="108" name="Oval Callout 20"/>
          <p:cNvSpPr/>
          <p:nvPr/>
        </p:nvSpPr>
        <p:spPr>
          <a:xfrm>
            <a:off x="1600200" y="3733920"/>
            <a:ext cx="152388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re My Dogs at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8:26:18Z</dcterms:created>
  <dc:creator>Robbie D</dc:creator>
  <dc:description/>
  <dc:language>en-US</dc:language>
  <cp:lastModifiedBy>Robbie D</cp:lastModifiedBy>
  <dcterms:modified xsi:type="dcterms:W3CDTF">2009-04-17T12:46:11Z</dcterms:modified>
  <cp:revision>41</cp:revision>
  <dc:subject/>
  <dc:title>The Roaring 20’s Presidents</dc:title>
</cp:coreProperties>
</file>